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DFE-F042-445C-9035-B56763EAE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1903-AB41-45E1-AC00-1B8DD6DA5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4219-C4C2-4172-BA11-310781DF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FFC0-FA34-4179-9ED0-FC9216659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7E54-1E02-4EEC-829B-28206E412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56B0-6D38-451A-B1FE-6F6A5D2D0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2112-8E4C-445B-8815-FC8135A88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B563-409A-46A1-B009-1964242D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3357-78ED-4272-BBBF-7DE9AC274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37B8-837B-4931-9158-241EAF88F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8C65-8203-4A8B-AFC1-87AF4AD34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9691-D558-4096-965D-1AEE31712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8F58-8C21-41C5-BF29-9ABA72B19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C6E4-2EA4-4310-B644-F5E38882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B297-3593-4C62-9104-1430CD394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7EAE-B6AA-4661-A247-B8F25375D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0F1C-014D-4D2A-BEFC-77C8AFFA7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48A-7340-4F7F-9945-EAFFEC3E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883A-03F5-44FC-85CA-C18397566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990-76B9-4EB4-8DD4-F2E39648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71B-3959-4652-BB69-B7DF656A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72B-D656-4733-A569-DBE2E22F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DA0-8C4C-4074-8883-0603E61F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5F0-D4FD-4A11-BAB1-98DB8183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232-D0EE-42AD-AA4D-93154B08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2E0-4246-4C6C-8075-3ECD533F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47F-E063-4239-894C-E9B88197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9BE-EB41-4E90-865D-1AFA66F0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AAE-EC2E-4DE3-BF8F-10A0011F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E0D-CAF5-4006-9913-65F9C1CD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D09-911E-4766-B32C-E93893BE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92EB-4095-4D6B-AE81-2C29C6D3E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Overview of Middl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s of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ical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Antiqu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Greece and 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fell in 476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ddle A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“Dark Ag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hur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ok place of Empire in 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r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aissance to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Romanesque Church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867280" y="4632480"/>
            <a:ext cx="2971800" cy="207324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rom Medieval to Modern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th Century Chaos and the Rise of Central Gov’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 Years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bonic Pl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07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n Theme: Catastrophe and the positives it can bring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6192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100 Years W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337-14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 vs. France, France wins (yeah Joa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Decline of Feud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, Standing ar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 of Nationalism &amp; Strong Monarc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emerged as major Continental Power (just ask Machiavelli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516720" y="2565360"/>
            <a:ext cx="21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Welcome to St. Joan of Arc Books"/>
          <p:cNvPicPr/>
          <p:nvPr/>
        </p:nvPicPr>
        <p:blipFill>
          <a:blip r:embed="rId1"/>
          <a:stretch/>
        </p:blipFill>
        <p:spPr>
          <a:xfrm>
            <a:off x="5810400" y="380988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210360" y="1143000"/>
            <a:ext cx="112248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6997680" y="2438280"/>
            <a:ext cx="1036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 B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ack Dea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un dun dun! (sound of ominous mus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/5 of Europe’s pop. dead in 50 y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ted Italy, moved North (via trade ro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t cities esp. h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ly weakened N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rtisans in city dying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pportunity to be replaced by peasants/country fo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Nobles made money from sel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od... So many people died, food pric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Art of the 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yersinia_pestis"/>
          <p:cNvPicPr/>
          <p:nvPr/>
        </p:nvPicPr>
        <p:blipFill>
          <a:blip r:embed="rId1"/>
          <a:srcRect l="6803" t="15997" r="5201" b="18001"/>
          <a:stretch/>
        </p:blipFill>
        <p:spPr>
          <a:xfrm>
            <a:off x="7086600" y="1447920"/>
            <a:ext cx="1600200" cy="96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flea"/>
          <p:cNvPicPr/>
          <p:nvPr/>
        </p:nvPicPr>
        <p:blipFill>
          <a:blip r:embed="rId2"/>
          <a:stretch/>
        </p:blipFill>
        <p:spPr>
          <a:xfrm>
            <a:off x="5943600" y="2895480"/>
            <a:ext cx="2438280" cy="1320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Black rat"/>
          <p:cNvPicPr/>
          <p:nvPr/>
        </p:nvPicPr>
        <p:blipFill>
          <a:blip r:embed="rId3"/>
          <a:stretch/>
        </p:blipFill>
        <p:spPr>
          <a:xfrm>
            <a:off x="6477120" y="4952880"/>
            <a:ext cx="236196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gue Era Ar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city9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2093760"/>
            <a:ext cx="76960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gue Era Ar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deathpic"/>
          <p:cNvPicPr/>
          <p:nvPr/>
        </p:nvPicPr>
        <p:blipFill>
          <a:blip r:embed="rId1"/>
          <a:stretch/>
        </p:blipFill>
        <p:spPr>
          <a:xfrm>
            <a:off x="1371600" y="1795320"/>
            <a:ext cx="60958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gue Era Ar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DanceODeath"/>
          <p:cNvPicPr/>
          <p:nvPr/>
        </p:nvPicPr>
        <p:blipFill>
          <a:blip r:embed="rId1"/>
          <a:stretch/>
        </p:blipFill>
        <p:spPr>
          <a:xfrm>
            <a:off x="3809880" y="1600200"/>
            <a:ext cx="396252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did this do to Euro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920" y="1212480"/>
            <a:ext cx="684216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many issues for people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al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ge famine in early 13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gue in mid-late 13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1/3 population d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ant Warfare (Hundred Yr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ous depression and doub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cial Upheaval (Nobles lose out big to rising power of K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o top it all of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12000" y="1773360"/>
            <a:ext cx="31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Figure 1. Schematic representation of Caco-2 permeablility assay."/>
          <p:cNvPicPr/>
          <p:nvPr/>
        </p:nvPicPr>
        <p:blipFill>
          <a:blip r:embed="rId1"/>
          <a:stretch/>
        </p:blipFill>
        <p:spPr>
          <a:xfrm>
            <a:off x="5638680" y="930240"/>
            <a:ext cx="2987640" cy="2570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400800" y="3645000"/>
            <a:ext cx="2411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“Dance of Dea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7640" y="0"/>
            <a:ext cx="8350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just as many questions regarding the Churc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tics as Usual… Boniface VII vs. Philip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09-1377: Avignon Papacy… controlled by French King?!?  Rome in dis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Church extravagance too (read: “Party!”)… as well as church fund raising!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nefices, indulgences, simony, tithes, dispensation from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no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w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 too political??? Questions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iliar Mo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iam of Ockham and Brothers of Common Life &amp; Augustinian monks (all want POPULAR PIETY… Internal Feeling, NOT External 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c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 Schism (1378-141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or 3 Popes at any one time!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 do you look 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gory XI back to Rome… then d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push for Urban VI (Itali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nch say unfair election… elect another Pope in Avign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?? Universal Excommunication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eval Plague Sufferers… “This is the last thing I need in my life right now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ciliaris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uncil of Pisa (Both Rome/Avignon gone… new Pope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uncil of Constance (All three gone… new Pope again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Rebuild Rome… Renaissance Patrona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http://www.lib.utexas.edu/maps/historical/shepherd/great_schism_1378_1417.jpg"/>
          <p:cNvPicPr/>
          <p:nvPr/>
        </p:nvPicPr>
        <p:blipFill>
          <a:blip r:embed="rId1"/>
          <a:stretch/>
        </p:blipFill>
        <p:spPr>
          <a:xfrm>
            <a:off x="5896080" y="304920"/>
            <a:ext cx="31716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ig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00 Years War (Nobility, Feudalism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Centralized gov’t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lague (Nobility, Feudalism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er nobles= stronger central 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ral exodus= decreased feudal structure (esp. W. Euro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hurch Scandals- Avignon, Schism, &amp; Ecclesiastical Corruption (Religion as Primary Motivator for Al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questioning what used to be unquestionable; Begins more secular concerns (NOT end of religion thoug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http://www.jesuswalk.com/images/durer_horsemen_lg.jpg"/>
          <p:cNvPicPr/>
          <p:nvPr/>
        </p:nvPicPr>
        <p:blipFill>
          <a:blip r:embed="rId1"/>
          <a:stretch/>
        </p:blipFill>
        <p:spPr>
          <a:xfrm>
            <a:off x="5351400" y="380880"/>
            <a:ext cx="3792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litical/social arrangement… esp. in Norther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ie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nd or gift) f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r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as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… “owned” by the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 allegiance to L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entralized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not in hands of 1… see picture to righ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371600" y="3124080"/>
            <a:ext cx="762120" cy="914400"/>
          </a:xfrm>
          <a:prstGeom prst="downArrow">
            <a:avLst>
              <a:gd name="adj1" fmla="val 50000"/>
              <a:gd name="adj2" fmla="val 2999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hart-feudal hierarchy"/>
          <p:cNvPicPr/>
          <p:nvPr/>
        </p:nvPicPr>
        <p:blipFill>
          <a:blip r:embed="rId1"/>
          <a:stretch/>
        </p:blipFill>
        <p:spPr>
          <a:xfrm>
            <a:off x="4805280" y="2362320"/>
            <a:ext cx="4567320" cy="2125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ouse that the Lords Bui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t Gothic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t Gothic ExtraBold"/>
              </a:rPr>
              <a:t>Carcassonne:  A Medieval Cas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arcassonne"/>
          <p:cNvPicPr/>
          <p:nvPr/>
        </p:nvPicPr>
        <p:blipFill>
          <a:blip r:embed="rId1">
            <a:lum contrast="6000"/>
          </a:blip>
          <a:srcRect l="1051" t="0" r="0" b="0"/>
          <a:stretch/>
        </p:blipFill>
        <p:spPr>
          <a:xfrm>
            <a:off x="3276720" y="2333520"/>
            <a:ext cx="5562360" cy="40863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380880" y="2743200"/>
            <a:ext cx="251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the presence of castles make a King weak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k Machiavell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Manor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s of Middle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arian (3 fields, rotated… 1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all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% worked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l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lf-su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little trade, thus little  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bility rules the r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657600" y="1996920"/>
            <a:ext cx="556272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17560"/>
            <a:ext cx="830592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dieval ‘Cribs’ (??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dcrafted thatch roof, scrub brush floors and open windows… plenty of room for the kids, the goats, and the cow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room/no bath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724640" cy="3498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festyle- Food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Recip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 Combine grain, onions, turnips, carrots, and salted meats (if available… most likely won’t be though) to a watery broth and…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OILA!  You’ve got Soup de Mano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southern Europe, soup should be served with wine.  In north, with beer (plain water too dangerou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daily caloric intake: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6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lories (modern is 2000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oman Catholic Church, late Middl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57440" y="2133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thic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ing buttresses &amp; Pointed arches… all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windows…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INED G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l a s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Glory of Go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bourges01"/>
          <p:cNvPicPr/>
          <p:nvPr/>
        </p:nvPicPr>
        <p:blipFill>
          <a:blip r:embed="rId1"/>
          <a:stretch/>
        </p:blipFill>
        <p:spPr>
          <a:xfrm>
            <a:off x="-228600" y="2135160"/>
            <a:ext cx="5715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ior of Gothic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urch Pe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o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ollege of Cardina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rchbishops, Bishops, Pries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onks (monastery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Illuminated Manuscript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uns (conven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>
            <a:lum contrast="6000"/>
          </a:blip>
          <a:srcRect l="16312" t="0" r="17149" b="0"/>
          <a:stretch/>
        </p:blipFill>
        <p:spPr>
          <a:xfrm>
            <a:off x="3983040" y="1143000"/>
            <a:ext cx="439596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Line 5"/>
          <p:cNvSpPr/>
          <p:nvPr/>
        </p:nvSpPr>
        <p:spPr>
          <a:xfrm flipV="1">
            <a:off x="3048120" y="4723920"/>
            <a:ext cx="838080" cy="228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20:37Z</dcterms:created>
  <dc:creator>mchapman</dc:creator>
  <dc:description/>
  <dc:language>en-US</dc:language>
  <cp:lastModifiedBy>Sue Gregory</cp:lastModifiedBy>
  <dcterms:modified xsi:type="dcterms:W3CDTF">2008-09-11T05:00:32Z</dcterms:modified>
  <cp:revision>2</cp:revision>
  <dc:subject/>
  <dc:title>I. Overview of Middle Ages</dc:title>
</cp:coreProperties>
</file>